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A2C-CDF4-476A-B53B-606F36F7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4B93-5D56-4330-BB0A-0A5BAC3A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4E8-FCCB-4B8F-B491-D73C6822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CCD-7D03-477B-BB72-2592BD86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CD2-EF10-4A93-9F5B-9FA80FDD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1EC-3467-410A-B8DE-88538667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175-35AD-4B5A-9C97-65B1E149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859-C106-422C-AD13-3D622E9F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CCD-69C9-49AB-BE88-144BEE79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FC7-1F08-4560-B151-8CA74E51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100-2CA3-4973-93C7-353E4C6B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B31-0431-402A-B15E-B0A00E43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56DE-473B-4C58-A59F-48BC78AD4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ff"/>
                </a:solidFill>
                <a:latin typeface="Times New Roman"/>
              </a:rPr>
              <a:t>Talks to Animal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5105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9:10:09Z</dcterms:created>
  <dc:creator>owner</dc:creator>
  <dc:description/>
  <dc:language>en-US</dc:language>
  <cp:lastModifiedBy>owner</cp:lastModifiedBy>
  <dcterms:modified xsi:type="dcterms:W3CDTF">2011-01-19T12:53:20Z</dcterms:modified>
  <cp:revision>2</cp:revision>
  <dc:subject/>
  <dc:title>I talk to the animals…</dc:title>
</cp:coreProperties>
</file>